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1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move the slide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3D2-A2D5-46E8-B736-D6EE5BD23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4F60A4-5D2D-4312-AA0D-EDE6C8A22B2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C0BC-F4B8-43A6-8CFD-F8A5B553CF4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910C-6B29-411C-93DE-407F3ED0A2E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067-0FD4-433A-808D-BBE24F7DAA9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5A6-6436-43DA-AA2F-F11BDA3793A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457-20F5-44AF-B8AA-6057BF8ED3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157-6C53-478F-97F0-B97913FA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4F8-DC12-4E0C-83C6-74CB48E9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9F1D-78BF-4E0A-B7DF-A7C3B34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42957-9C72-4BB5-BB95-C9D27E19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5DDA9-E84C-4102-85B8-60D6B11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E2F5-415E-472E-A3A5-D25A78D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7C846-B7CF-49F6-94CF-83D3CFB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AD3DB-EFFD-4047-9EDB-906F0C3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84AB-7EAE-45D2-9404-1311964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46997-75E5-4C0E-BCA0-52D1D922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BE814-1B33-4299-B991-1D24D2B2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2AB54-CD53-42C6-8729-ED9E69C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2F1-B22C-452C-8FC7-F9B8D0A6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48CCD-6010-4BFF-BAD3-8507E699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4A887-0D83-48D6-99C8-3C756A2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9BA03-1E5A-41FA-9B98-86F8180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62091-4744-4754-9816-B870BC3E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2866A-F49E-4C7D-A892-999190E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AF2B8-59E6-4C3B-AFCE-2F24060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5E469-6AEF-487E-A4CF-4629623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ACB79-0AAD-4D60-B98B-0E89CA7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EA0A8-3A38-45A8-9552-E4083E19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165F1-2C56-47F5-AC73-770A999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AA3-09C7-441C-AFC3-6139F3D8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D193A-F3D9-4A76-8D3A-80FFBBEA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63638-48D1-4349-9AA4-C56450C3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9088-454B-4EE9-940F-082BB823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9D938-AEB4-4433-A01B-DA31991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F585-688D-4E8A-863A-35D7E5E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798E4-49EC-4B24-BFD4-6284DBA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EF6F9-051B-4F26-86E2-70233B4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EFDDF-F808-41A1-85B4-35D47BA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397A-A5CA-4CA8-AEEC-6FC3A63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7F1AB-F558-49B4-BE26-F7A3919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E3E-BDD4-4D0A-A567-AE3D107C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7A63-02FC-4A6E-8E40-033FCF0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AB45-40AB-4E9E-B451-F211F42C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5C2ED-889F-4F2F-8EE6-92D378B5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248B2-B071-4A72-AE41-B4370825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8F897-876A-4A4D-BEB6-2DF03827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9719E-6AFE-4F2B-BFD5-2B84864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3AD46-74AD-4C8E-87A6-0D95451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C9B33-6BCD-415E-B0C2-21B81ED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FB864-2936-452D-A417-DF4624C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005D4-1F6E-4098-B215-084D2AA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FAD-8BDF-44A3-9D51-E4FA43E3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3D9FF-DB3B-49E4-A7EE-373810B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E74D1-123F-4FA2-B593-73E7FC8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74AC7-758E-4C67-8F61-C80D986D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456BA-33A1-4A0A-ADB7-D8D8AE7E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B4EE5-2BC1-415F-9B43-1DD0F85E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2F616-2746-4A95-8F17-EBDE07B6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CA803-5C23-463C-9C59-D4DE517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E1483-FA6C-48EC-96C2-6C30FECF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BB773-450E-4C62-9AB8-23C7D23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65636-69BC-4FD9-8D61-CDF7E32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6B5-7151-42F3-AFE1-4B6C4B1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F6C9C-2871-4DE2-B1C3-B641FB6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40F8F-CF87-4AD9-A05B-D7F5632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5982B-AE0E-4343-86F4-EE6E7FF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44F9E-D93E-4EE6-BA74-C8B290C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AEF83-16B5-4212-9C2E-AB766F5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8E910-DD6B-46E0-A1C4-90643415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04E1A-BF5C-443E-914E-A3AEF13E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A809-7DFD-499E-9ED1-03E54D65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144D-3EE4-47E7-BEF9-CA0E31F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6312-FD1D-463D-9247-E65C3519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584-0595-4EBE-827E-70B0453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062-8EA8-4EFB-9632-167B4E5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99B-6799-4180-847C-EAE99B5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B8A-71CA-4AB7-9E30-58A1190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89F2-C09D-434F-A58F-1E2AD825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2266-F6D0-41F0-835C-B95AA284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F750-B2D9-4584-A51A-AAEE454C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6D8E-4B6D-4E1E-BA86-D1A50116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4453-38F8-4C0C-9D24-AB1FF15E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203E-5B54-4FA9-9945-851C4CD9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C07C-60BE-443F-8E4E-D082063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9F86-4C43-4849-8B95-CD2AEE3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498-55E3-48FD-96C8-B43D9F5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7AA6-C650-4551-ADFD-4FBB268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ADC6-9279-4FBD-9068-40C3183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7250-5304-42A5-B30A-E8C4324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5D45-05D6-44C4-BDF7-2036BB1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AE16-ADD5-4BE6-8ED3-9301B9B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B62B-349B-4173-8389-ED55C5A2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CE87-BDDA-41E7-81A8-4DFFF912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6090D-7F4C-4238-94B4-7BDB5496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4D56-E7BC-4592-BF44-B1044298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867A-BD57-4904-BD4A-45E28CD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89A-C5BC-4CE4-9C23-81B4E4B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0B77-14A5-47B3-9854-24D977A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4AE2-04BF-4378-8616-B3014327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00FB-D05B-476F-92BE-DAC31997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5EAF-370B-41E4-BE95-ED86852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12FD-54F9-4C01-A746-0CA4A9C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2E40-6E6D-4236-8179-1020E9B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EF86-59C0-4D8C-83B0-DFFC3A9D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0E4B-4C6D-4E0E-8280-65A15BBB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7874-9E56-422C-90E7-822D390E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903B-27EC-48A5-B4AF-D2983C91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2C7-1697-4735-86A8-2073AF9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2751-C273-498B-B6D0-E2CE74D7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027C-637E-4371-95D6-237A8EF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09EB5-3D9B-4C1C-AE18-A3B3886E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E317-AAEE-4902-9EB6-4D3EDF8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43ED-4312-423C-BA7A-7D2B0B9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1B455-3DF6-4722-8DCC-7B4AD56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BB54-F0EF-499B-9ED9-580FB15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6B2E-C02E-4F16-B5B6-2BBB100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2DB5-A0EE-414E-AFD6-5BDE31C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8454-8ECD-44AF-87E9-06C210DD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3B8-24B2-4198-8AB3-2D815272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41FC-3F97-478D-A2D4-92C950C6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5C814-E23E-48F5-8E83-FCCB715A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4863-2015-41E0-B67D-8754F6C0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FBC0-AB8E-4183-B60A-CF983EE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C3BD-D749-42B3-B0D6-820A329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6553B-1B4A-40F0-A156-5A30319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5768-E39B-431B-8C6E-60292E4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EDBE-F0CB-4107-832A-CB73522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E2C1-4123-40BC-90E1-A93AE382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609B-710C-4861-88E8-3404EF3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947-CCBD-46C6-9E73-99F5EDB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2916-E379-4DD6-B45C-19EFD56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D7C0-37E7-4E1C-9782-69B23E8D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E1D0-7D03-4BB7-87D1-D3CC4D0F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3C2E-6E92-4A41-A817-2E571FEC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2D9D-E3FE-4FA0-8C9E-876081B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5FCB-FB46-4AEA-B1FB-91BBD78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0394-77A1-4238-828D-30CF543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C81B-1635-409D-B070-120392B2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163C-B590-4918-B817-CFE0A44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9125C-94A6-4398-A003-AB97D66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D64-F5A1-4D99-BD9C-6709E90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94AD-5A80-4C0D-998B-880A7BD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6016-F664-4D45-8F60-D9DA0A0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CC31-3FA8-46A4-B40E-A1F966E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2CBB-C629-443B-9445-B8CB630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80B4-2DC8-490F-8CAD-61373017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0F050-4F05-44E5-BADF-5EBCEDB7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4DA0-A441-4E70-A697-5B87477B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DF10-F041-4F7C-8435-D1C4D7BC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20AF-5BAB-4FEA-8B10-3A179B1C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88852-8E2D-4BF6-8E24-46202FC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6B4-A288-4E53-9F5B-53C9018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D9DC-4C82-4E9F-AF84-FD89AD4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721B-B2BF-416C-B98B-C387B18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92A92-805B-43BA-8E1A-AE92A1B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5AAA-8A14-429C-AA7E-1F4C64E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0BFC2-C4D1-46B8-8D72-15254E07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ECF7-25EF-41DD-94B0-D0B127D5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0C40-49F3-4D85-8D8B-C10D3E55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7CA49-3BCA-4EDF-8A70-0785C81E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E4D0D-BB59-4472-AFD6-89C89412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020D6-50BC-485D-8B4A-6AD47ABF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E68-7519-413C-A30D-47CFF0FAB0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B5F-6A32-4501-BA46-238E05618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18C-7581-4330-BC54-093630C197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8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1034-5889-45A9-A942-D649D4A069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3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48E0-FA12-4E3A-9F2A-4F2C98325C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884-80A4-41FE-8DA3-247B786F52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E0E1-A808-4646-B241-6D5F2AEEFE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EB0-325D-452D-8ED2-BFD9EB70AF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8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BF4-4B1E-4765-96E8-8C18225292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6A5-938C-45C2-A152-38C7FF031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55D-B575-47C6-ABB6-58066F9822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6D3-0DD0-4FFB-B24D-35119B4308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36E-6680-4641-917B-89D3CBE451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137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2f2f2"/>
                </a:solidFill>
                <a:latin typeface="Garamond"/>
              </a:rPr>
              <a:t>Evaluation Work Programme 2019-2023</a:t>
            </a:r>
            <a:br>
              <a:rPr sz="3200"/>
            </a:br>
            <a:r>
              <a:rPr b="1" lang="en-GB" sz="3200" spc="-1" strike="noStrike">
                <a:solidFill>
                  <a:srgbClr val="f2f2f2"/>
                </a:solidFill>
                <a:latin typeface="Garamond"/>
              </a:rPr>
              <a:t>for Strategic Evaluations</a:t>
            </a:r>
            <a:br>
              <a:rPr sz="3200"/>
            </a:br>
            <a:br>
              <a:rPr sz="2600"/>
            </a:br>
            <a:br>
              <a:rPr sz="26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1640" y="4292640"/>
            <a:ext cx="51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d624"/>
                </a:solidFill>
                <a:latin typeface="Garamond"/>
              </a:rPr>
              <a:t>Pavel Borkovec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d624"/>
                </a:solidFill>
                <a:latin typeface="Garamond"/>
              </a:rPr>
              <a:t>Head of Evaluation &amp; Results Unit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CC17-0F1A-483A-9688-6816F9283F15}" type="slidenum">
              <a:rPr b="1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WP 2019-2023</a:t>
            </a: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Rolling 5-year WP for strategic evaluations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Edition 2019-2023 is approved by DEVCO Management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It consists of: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Garamond"/>
              </a:rPr>
              <a:t>    </a:t>
            </a:r>
            <a:r>
              <a:rPr b="1" i="1" lang="en-GB" sz="2000" spc="-1" strike="noStrike">
                <a:solidFill>
                  <a:srgbClr val="0f5494"/>
                </a:solidFill>
                <a:latin typeface="Garamond"/>
              </a:rPr>
              <a:t>- Geographic evaluations 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Garamond"/>
              </a:rPr>
              <a:t>    </a:t>
            </a:r>
            <a:r>
              <a:rPr b="1" i="1" lang="en-GB" sz="2000" spc="-1" strike="noStrike">
                <a:solidFill>
                  <a:srgbClr val="0f5494"/>
                </a:solidFill>
                <a:latin typeface="Garamond"/>
              </a:rPr>
              <a:t>- Thematic evaluations 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Evaluations of projects are outside the scope of the Work Programme. These are covered by the EUDs 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Reviewed and fine-tuned on a yearly basis. Thus, it is more complete and accurate for the first two years of the 2019-2023 period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ublished: https://ec.europa.eu/europeaid/strategic-evaluations-analyse-eu-strategies_en</a:t>
            </a: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65E-E95C-4C2B-9A20-D2946D3A202C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Geographic evaluations: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FF3-F8AB-4B71-8D08-C6C930C02AEC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30080" y="2276640"/>
          <a:ext cx="7560000" cy="3659040"/>
        </p:xfrm>
        <a:graphic>
          <a:graphicData uri="http://schemas.openxmlformats.org/drawingml/2006/table">
            <a:tbl>
              <a:tblPr/>
              <a:tblGrid>
                <a:gridCol w="3203640"/>
                <a:gridCol w="1882800"/>
                <a:gridCol w="1236600"/>
                <a:gridCol w="1236960"/>
              </a:tblGrid>
              <a:tr h="79848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aunch of RfS in Y2019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Joint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Budget Support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Fragil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4a82"/>
                          </a:solidFill>
                          <a:latin typeface="Garamond"/>
                        </a:rPr>
                        <a:t>Kyrgyzsta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200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4a82"/>
                          </a:solidFill>
                          <a:latin typeface="Garamond"/>
                        </a:rPr>
                        <a:t>Mauritania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372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4a82"/>
                          </a:solidFill>
                          <a:latin typeface="Garamond"/>
                        </a:rPr>
                        <a:t>Niger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  </a:t>
                      </a:r>
                      <a:r>
                        <a:rPr b="1" i="1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aunch of RfS  in Y2020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f5494"/>
                          </a:solidFill>
                          <a:latin typeface="Garamond"/>
                        </a:rPr>
                        <a:t>Angola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f5494"/>
                          </a:solidFill>
                          <a:latin typeface="Garamond"/>
                        </a:rPr>
                        <a:t>Guatemala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372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f5494"/>
                          </a:solidFill>
                          <a:latin typeface="Garamond"/>
                        </a:rPr>
                        <a:t>Tajikista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68400" rIns="68400" tIns="0" bIns="0" anchor="ctr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f5494"/>
                          </a:solidFill>
                          <a:latin typeface="Garamond"/>
                        </a:rPr>
                        <a:t>Somalia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X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88" name="Rectangle 5"/>
          <p:cNvSpPr/>
          <p:nvPr/>
        </p:nvSpPr>
        <p:spPr>
          <a:xfrm>
            <a:off x="7101000" y="1990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Thematic evaluations:</a:t>
            </a:r>
            <a:br>
              <a:rPr sz="3200"/>
            </a:b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Launch of RfS in Y2019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ivil Society Organizations and Local Authorities Programme (CSO – LA)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Gender Equality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Evaluation on Delivery through International Development Banks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AB6-A16C-41A8-A1FA-220308AA3AD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Thematic evaluations:</a:t>
            </a:r>
            <a:br>
              <a:rPr sz="3200"/>
            </a:b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Launch of RfS in Y2020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Agriculture – Growth – Employment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Global Public Goods and Challenges Programme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FM including Domestic Resources Mobilization &amp; Utilization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Renewable Natural Resources including Biodiversity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2A1-16C8-4CAE-A99A-D44EBC4FF48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32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Dissemination and uptake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resentation to DEVCO Management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ublication on internet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Fiche contradictoire (response of services)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  <a:p>
            <a:pPr lvl="1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Seminars on the results of evaluations</a:t>
            </a:r>
            <a:endParaRPr b="1" lang="en-US" sz="2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758-2864-4CF0-8C0F-6F4EAC578C0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8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Improving our Business Processes;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Latest Development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F5E-802E-4DE1-B0E5-B3BEA3E87B8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250920" y="198900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Introducing a systematic peer review of milestone deliverables for quality assuranc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Reducing the time between the end of the scope of an evaluation and the presentation to management – Risk mitigati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Testing a number of machine learning possibilities/ AI  and involving DGT for the review of the executive summary of the evaluation reports – Improve readability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Working on the evaluability of foreseen topics to prepare the ground for further investment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LAMPOKA Eleni (DEVCO)</cp:lastModifiedBy>
  <cp:lastPrinted>2017-03-29T10:51:49Z</cp:lastPrinted>
  <dcterms:modified xsi:type="dcterms:W3CDTF">2019-06-20T07:29:32Z</dcterms:modified>
  <cp:revision>241</cp:revision>
  <dc:subject/>
  <dc:title>Slide 1</dc:title>
</cp:coreProperties>
</file>